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3.jpeg" ContentType="image/jpeg"/>
  <Override PartName="/ppt/media/image52.jpeg" ContentType="image/jpeg"/>
  <Override PartName="/ppt/media/image13.png" ContentType="image/png"/>
  <Override PartName="/ppt/media/image50.jpeg" ContentType="image/jpeg"/>
  <Override PartName="/ppt/media/image47.jpeg" ContentType="image/jpeg"/>
  <Override PartName="/ppt/media/image51.jpeg" ContentType="image/jpeg"/>
  <Override PartName="/ppt/media/image27.gif" ContentType="image/gif"/>
  <Override PartName="/ppt/media/image35.jpeg" ContentType="image/jpeg"/>
  <Override PartName="/ppt/media/image1.jpeg" ContentType="image/jpeg"/>
  <Override PartName="/ppt/media/image21.png" ContentType="image/png"/>
  <Override PartName="/ppt/media/image10.png" ContentType="image/png"/>
  <Override PartName="/ppt/media/image36.jpeg" ContentType="image/jpeg"/>
  <Override PartName="/ppt/media/hammer.wav" ContentType="audio/x-wav"/>
  <Override PartName="/ppt/media/image20.png" ContentType="image/png"/>
  <Override PartName="/ppt/media/image54.jpeg" ContentType="image/jpeg"/>
  <Override PartName="/ppt/media/image19.jpeg" ContentType="image/jpeg"/>
  <Override PartName="/ppt/media/applause.wav" ContentType="audio/x-wav"/>
  <Override PartName="/ppt/media/image25.gif" ContentType="image/gif"/>
  <Override PartName="/ppt/media/type.wav" ContentType="audio/x-wav"/>
  <Override PartName="/ppt/media/image22.gif" ContentType="image/gif"/>
  <Override PartName="/ppt/media/image18.jpeg" ContentType="image/jpeg"/>
  <Override PartName="/ppt/media/image15.png" ContentType="image/png"/>
  <Override PartName="/ppt/media/image57.jpeg" ContentType="image/jpeg"/>
  <Override PartName="/ppt/media/image24.gif" ContentType="image/gif"/>
  <Override PartName="/ppt/media/image32.jpeg" ContentType="image/jpeg"/>
  <Override PartName="/ppt/media/image2.gif" ContentType="image/gif"/>
  <Override PartName="/ppt/media/image5.png" ContentType="image/png"/>
  <Override PartName="/ppt/media/image17.png" ContentType="image/png"/>
  <Override PartName="/ppt/media/image12.png" ContentType="image/png"/>
  <Override PartName="/ppt/media/image49.png" ContentType="image/png"/>
  <Override PartName="/ppt/media/image56.jpeg" ContentType="image/jpeg"/>
  <Override PartName="/ppt/media/bomb.wav" ContentType="audio/x-wav"/>
  <Override PartName="/ppt/media/image46.jpeg" ContentType="image/jpeg"/>
  <Override PartName="/ppt/media/image14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chimes.wav" ContentType="audio/x-wav"/>
  <Override PartName="/ppt/media/image23.jpeg" ContentType="image/jpeg"/>
  <Override PartName="/ppt/media/image8.png" ContentType="image/png"/>
  <Override PartName="/ppt/media/image38.png" ContentType="image/png"/>
  <Override PartName="/ppt/media/whoosh.wav" ContentType="audio/x-wav"/>
  <Override PartName="/ppt/media/image7.png" ContentType="image/png"/>
  <Override PartName="/ppt/media/image34.jpeg" ContentType="image/jpeg"/>
  <Override PartName="/ppt/media/image37.png" ContentType="image/png"/>
  <Override PartName="/ppt/media/image9.png" ContentType="image/png"/>
  <Override PartName="/ppt/media/image39.png" ContentType="image/png"/>
  <Override PartName="/ppt/media/image26.gif" ContentType="image/gif"/>
  <Override PartName="/ppt/media/image28.gif" ContentType="image/gif"/>
  <Override PartName="/ppt/media/image29.gif" ContentType="image/gif"/>
  <Override PartName="/ppt/media/image30.jpeg" ContentType="image/jpeg"/>
  <Override PartName="/ppt/media/image31.gif" ContentType="image/gif"/>
  <Override PartName="/ppt/media/image33.gif" ContentType="image/gif"/>
  <Override PartName="/ppt/media/explode.wav" ContentType="audio/x-wav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5.jpeg" ContentType="image/jpe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702C-4DF1-4FAC-A63B-7DDA02ED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BF0-617E-463C-9C72-4D93A95F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B0B5-7204-4124-9030-46BF9711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B3EE-D013-430A-98A4-D3AD322E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A92F-BCB7-4C6A-81C4-02D67F6E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11A5-BAA0-4424-9D4E-D531403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DBD9-8EB2-4ECD-8624-C2E33901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4AF5-985A-4D16-A94D-1A950451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477C-636B-45CC-A645-EA4E0D5D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FB5D-2BF3-4419-9781-B773E09A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CA06-B1CE-42B7-A4D4-69E9477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5EBB-FF86-4135-9D60-CFB9CB3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8C75-4D7B-47BA-8622-A72CC6C0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075C-79E8-4AF8-A167-61B2D5DC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6DBC-B0DF-4104-B1BD-77B5CB0F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FA4E-7CE8-4603-9AA7-025C358A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694D-822D-445C-9A31-1B89A7DA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062D-80FE-47A3-99DC-2D07ACB9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88B-4AD5-476C-BB07-95E537F5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00E-6718-4F3F-B4B6-815CA82E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7896-4ACF-4CDE-92B6-5BDA15BA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B950-8982-4B0E-B8AE-6D7A7CD3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50B-34D9-4A94-84A0-2CA66DA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9DF-8C48-465F-8D11-0D723B1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893E-8F0A-4AE8-B684-0456DA70F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BD80-7DB6-4F55-A909-396FABDCFC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image" Target="../media/image49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audio" Target="../media/whoosh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audio" Target="../media/bomb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476280"/>
            <a:ext cx="684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6600" spc="-1" strike="noStrike">
                <a:solidFill>
                  <a:srgbClr val="ffffff"/>
                </a:solidFill>
                <a:latin typeface="Comic Sans MS"/>
              </a:rPr>
              <a:t>Traffic Safety   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Animated Transport - Cars"/>
          <p:cNvPicPr/>
          <p:nvPr/>
        </p:nvPicPr>
        <p:blipFill>
          <a:blip r:embed="rId2"/>
          <a:stretch/>
        </p:blipFill>
        <p:spPr>
          <a:xfrm>
            <a:off x="1835280" y="1916280"/>
            <a:ext cx="475128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Animated Transport - Buses"/>
          <p:cNvPicPr/>
          <p:nvPr/>
        </p:nvPicPr>
        <p:blipFill>
          <a:blip r:embed="rId2"/>
          <a:stretch/>
        </p:blipFill>
        <p:spPr>
          <a:xfrm>
            <a:off x="1835280" y="189000"/>
            <a:ext cx="4881600" cy="504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95280" y="5013360"/>
            <a:ext cx="8280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e must sit in the school bu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Animated Transport - Motor Bikes"/>
          <p:cNvPicPr/>
          <p:nvPr/>
        </p:nvPicPr>
        <p:blipFill>
          <a:blip r:embed="rId2"/>
          <a:stretch/>
        </p:blipFill>
        <p:spPr>
          <a:xfrm>
            <a:off x="0" y="0"/>
            <a:ext cx="9144000" cy="2997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Animated Transport - Motor Bikes"/>
          <p:cNvPicPr/>
          <p:nvPr/>
        </p:nvPicPr>
        <p:blipFill>
          <a:blip r:embed="rId3"/>
          <a:stretch/>
        </p:blipFill>
        <p:spPr>
          <a:xfrm>
            <a:off x="3419640" y="4365720"/>
            <a:ext cx="1984320" cy="1714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0" y="3141720"/>
            <a:ext cx="91440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While riding a bike we must wear a helme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Free Animations"/>
          <p:cNvPicPr/>
          <p:nvPr/>
        </p:nvPicPr>
        <p:blipFill>
          <a:blip r:embed="rId2"/>
          <a:stretch/>
        </p:blipFill>
        <p:spPr>
          <a:xfrm>
            <a:off x="-468360" y="-243000"/>
            <a:ext cx="5184720" cy="35704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79280" y="5013360"/>
            <a:ext cx="87138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Children must sit at the back seat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7 -0.03306 L 0.51198 0.18706 E">
                                      <p:cBhvr>
                                        <p:cTn id="123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Free Animations"/>
          <p:cNvPicPr/>
          <p:nvPr/>
        </p:nvPicPr>
        <p:blipFill>
          <a:blip r:embed="rId2"/>
          <a:stretch/>
        </p:blipFill>
        <p:spPr>
          <a:xfrm>
            <a:off x="3132000" y="476280"/>
            <a:ext cx="6201000" cy="4778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0" y="5013360"/>
            <a:ext cx="914400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rivers mustn't drive with one hand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04046E-006 L -0.48091 -0.02289 E">
                                      <p:cBhvr>
                                        <p:cTn id="136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227640" y="189000"/>
            <a:ext cx="2374920" cy="1520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50920" y="5013360"/>
            <a:ext cx="86421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WE MUSTN'T CROSS AT THE RED LIGH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276720" y="2349360"/>
            <a:ext cx="1481040" cy="120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5280" y="3645000"/>
            <a:ext cx="5184720" cy="32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260280"/>
            <a:ext cx="84960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9280" y="620640"/>
            <a:ext cx="8785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WE MUST OBEY THE POLICE'S DIRECTION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11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524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4508640"/>
            <a:ext cx="9072720" cy="23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9280" y="4797360"/>
            <a:ext cx="878544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DON'T BE A TRAFFIC MONSTER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979640" y="3213000"/>
          <a:ext cx="4753080" cy="3225960"/>
        </p:xfrm>
        <a:graphic>
          <a:graphicData uri="http://schemas.openxmlformats.org/drawingml/2006/table">
            <a:tbl>
              <a:tblPr/>
              <a:tblGrid>
                <a:gridCol w="676080"/>
                <a:gridCol w="40770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3503520" y="5340600"/>
            <a:ext cx="18072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028600" cy="2158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619280" y="3147840"/>
          <a:ext cx="6552720" cy="3400560"/>
        </p:xfrm>
        <a:graphic>
          <a:graphicData uri="http://schemas.openxmlformats.org/drawingml/2006/table">
            <a:tbl>
              <a:tblPr/>
              <a:tblGrid>
                <a:gridCol w="1054080"/>
                <a:gridCol w="54986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8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walking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9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 along the stre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205080" y="5481720"/>
            <a:ext cx="18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120760" cy="2121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18900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Picture Option 1"/>
          <p:cNvPicPr/>
          <p:nvPr/>
        </p:nvPicPr>
        <p:blipFill>
          <a:blip r:embed="rId2"/>
          <a:stretch/>
        </p:blipFill>
        <p:spPr>
          <a:xfrm>
            <a:off x="3348000" y="836640"/>
            <a:ext cx="208764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692360" y="2781360"/>
          <a:ext cx="6119640" cy="3867120"/>
        </p:xfrm>
        <a:graphic>
          <a:graphicData uri="http://schemas.openxmlformats.org/drawingml/2006/table">
            <a:tbl>
              <a:tblPr/>
              <a:tblGrid>
                <a:gridCol w="576000"/>
                <a:gridCol w="554364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should not walk across the street here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9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when the car is r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ople mustn’t overtak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835280" y="260280"/>
            <a:ext cx="5041800" cy="6476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000" y="0"/>
            <a:ext cx="906300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195640" y="1773360"/>
          <a:ext cx="4536000" cy="4391640"/>
        </p:xfrm>
        <a:graphic>
          <a:graphicData uri="http://schemas.openxmlformats.org/drawingml/2006/table">
            <a:tbl>
              <a:tblPr/>
              <a:tblGrid>
                <a:gridCol w="644400"/>
                <a:gridCol w="389160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Picture Option 2"/>
          <p:cNvPicPr/>
          <p:nvPr/>
        </p:nvPicPr>
        <p:blipFill>
          <a:blip r:embed="rId2"/>
          <a:stretch/>
        </p:blipFill>
        <p:spPr>
          <a:xfrm>
            <a:off x="3059280" y="191628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Picture Option 1"/>
          <p:cNvPicPr/>
          <p:nvPr/>
        </p:nvPicPr>
        <p:blipFill>
          <a:blip r:embed="rId3"/>
          <a:stretch/>
        </p:blipFill>
        <p:spPr>
          <a:xfrm>
            <a:off x="3132000" y="2997360"/>
            <a:ext cx="935280" cy="1009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Picture Option 3"/>
          <p:cNvPicPr/>
          <p:nvPr/>
        </p:nvPicPr>
        <p:blipFill>
          <a:blip r:embed="rId4"/>
          <a:stretch/>
        </p:blipFill>
        <p:spPr>
          <a:xfrm>
            <a:off x="3132000" y="4076640"/>
            <a:ext cx="935280" cy="100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132000" y="5300640"/>
            <a:ext cx="863640" cy="8794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35280" y="476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one means give 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403280" y="3068640"/>
          <a:ext cx="5760720" cy="3239640"/>
        </p:xfrm>
        <a:graphic>
          <a:graphicData uri="http://schemas.openxmlformats.org/drawingml/2006/table">
            <a:tbl>
              <a:tblPr/>
              <a:tblGrid>
                <a:gridCol w="676440"/>
                <a:gridCol w="508428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’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aroun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3059280" y="998640"/>
            <a:ext cx="2089080" cy="2089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Picture Question"/>
          <p:cNvPicPr/>
          <p:nvPr/>
        </p:nvPicPr>
        <p:blipFill>
          <a:blip r:embed="rId2"/>
          <a:stretch/>
        </p:blipFill>
        <p:spPr>
          <a:xfrm>
            <a:off x="3348000" y="1052640"/>
            <a:ext cx="2106720" cy="172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332000" y="3068640"/>
          <a:ext cx="5914440" cy="3428640"/>
        </p:xfrm>
        <a:graphic>
          <a:graphicData uri="http://schemas.openxmlformats.org/drawingml/2006/table">
            <a:tbl>
              <a:tblPr/>
              <a:tblGrid>
                <a:gridCol w="693720"/>
                <a:gridCol w="5220720"/>
              </a:tblGrid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park or stop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walk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ente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driv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1187280" y="3068640"/>
          <a:ext cx="6121080" cy="3554280"/>
        </p:xfrm>
        <a:graphic>
          <a:graphicData uri="http://schemas.openxmlformats.org/drawingml/2006/table">
            <a:tbl>
              <a:tblPr/>
              <a:tblGrid>
                <a:gridCol w="556920"/>
                <a:gridCol w="556416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op and wait the train is coming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walk across the street her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dr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2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pa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43160" y="4869000"/>
            <a:ext cx="180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276720" y="1125360"/>
            <a:ext cx="1871640" cy="187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619280" y="3213000"/>
          <a:ext cx="5689440" cy="3200400"/>
        </p:xfrm>
        <a:graphic>
          <a:graphicData uri="http://schemas.openxmlformats.org/drawingml/2006/table">
            <a:tbl>
              <a:tblPr/>
              <a:tblGrid>
                <a:gridCol w="576360"/>
                <a:gridCol w="5113080"/>
              </a:tblGrid>
              <a:tr h="75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drive this way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drive this direc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75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ne-way traffic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203640" y="981000"/>
            <a:ext cx="2265120" cy="22654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1763640" y="3213000"/>
          <a:ext cx="5832720" cy="3241800"/>
        </p:xfrm>
        <a:graphic>
          <a:graphicData uri="http://schemas.openxmlformats.org/drawingml/2006/table">
            <a:tbl>
              <a:tblPr/>
              <a:tblGrid>
                <a:gridCol w="685800"/>
                <a:gridCol w="514692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557520" y="5158080"/>
            <a:ext cx="180720" cy="5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15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348000" y="1052640"/>
            <a:ext cx="2125800" cy="20685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692360" y="3213000"/>
          <a:ext cx="5904000" cy="3240000"/>
        </p:xfrm>
        <a:graphic>
          <a:graphicData uri="http://schemas.openxmlformats.org/drawingml/2006/table">
            <a:tbl>
              <a:tblPr/>
              <a:tblGrid>
                <a:gridCol w="691920"/>
                <a:gridCol w="521208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turn lef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not make a U-tur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turn righ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48000" y="1125360"/>
            <a:ext cx="2106720" cy="2051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132000" y="907920"/>
            <a:ext cx="2232000" cy="187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1547640" y="2852640"/>
          <a:ext cx="6264360" cy="3647880"/>
        </p:xfrm>
        <a:graphic>
          <a:graphicData uri="http://schemas.openxmlformats.org/drawingml/2006/table">
            <a:tbl>
              <a:tblPr/>
              <a:tblGrid>
                <a:gridCol w="400320"/>
                <a:gridCol w="5864040"/>
              </a:tblGrid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drive fa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89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can walk across the stre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n’t sto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must drive slowly there is a school near he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835280" y="260280"/>
            <a:ext cx="4752720" cy="7207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at does this sign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ere can you wait for the bu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ere you can wait for the bu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39640" y="0"/>
            <a:ext cx="7777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TRAFFIC SIGNS AND RULE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sign is for Airpo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403280" y="1916280"/>
          <a:ext cx="5772240" cy="4392360"/>
        </p:xfrm>
        <a:graphic>
          <a:graphicData uri="http://schemas.openxmlformats.org/drawingml/2006/table">
            <a:tbl>
              <a:tblPr/>
              <a:tblGrid>
                <a:gridCol w="576360"/>
                <a:gridCol w="5195880"/>
              </a:tblGrid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6666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feedb4"/>
                    </a:solidFill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feedb4"/>
                    </a:solidFill>
                  </a:tcPr>
                </a:tc>
              </a:tr>
            </a:tbl>
          </a:graphicData>
        </a:graphic>
      </p:graphicFrame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979640" y="3068640"/>
            <a:ext cx="1224000" cy="1093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297080" cy="1189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1979640" y="1916280"/>
            <a:ext cx="1295280" cy="11458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050920" y="5229360"/>
            <a:ext cx="1297080" cy="10792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332000" y="260280"/>
            <a:ext cx="61196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Comic Sans MS"/>
              </a:rPr>
              <a:t>Which one is for railw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651640" y="620640"/>
            <a:ext cx="3492360" cy="2521080"/>
          </a:xfrm>
          <a:prstGeom prst="wedgeEllipseCallout">
            <a:avLst>
              <a:gd name="adj1" fmla="val -76592"/>
              <a:gd name="adj2" fmla="val 7462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Thank you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250920" y="189000"/>
            <a:ext cx="4211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latin typeface="Comic Sans MS"/>
              </a:rPr>
              <a:t>GROUP POWER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3366ff"/>
              </a:solidFill>
              <a:latin typeface="Comic Sans MS"/>
              <a:ea typeface="Comic Sans MS"/>
            </a:endParaRPr>
          </a:p>
        </p:txBody>
      </p:sp>
    </p:spTree>
  </p:cSld>
  <p:transition spd="slow">
    <p:zoom dir="out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92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4508640"/>
            <a:ext cx="1657080" cy="72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40000" y="4653000"/>
            <a:ext cx="20160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4653000"/>
            <a:ext cx="22320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4724280"/>
            <a:ext cx="219564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are all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308640"/>
            <a:ext cx="216072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be car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6308640"/>
            <a:ext cx="201600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are near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a sch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6308640"/>
            <a:ext cx="194472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s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3080" y="6381720"/>
            <a:ext cx="1871640" cy="476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Be car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852640"/>
            <a:ext cx="1944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ark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2924280"/>
            <a:ext cx="187164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Hos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2924280"/>
            <a:ext cx="2232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3080" y="2924280"/>
            <a:ext cx="20509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Cyclists can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8100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Fasten your seat be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981000"/>
            <a:ext cx="223200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Pedesterian Cro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88000" y="981000"/>
            <a:ext cx="19447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School Cro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981000"/>
            <a:ext cx="2124000" cy="719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p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3789360"/>
            <a:ext cx="865440" cy="431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1441440" cy="1268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1700280"/>
            <a:ext cx="205092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Roundab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843280" y="189000"/>
            <a:ext cx="1363680" cy="1387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40000" y="170028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1582920" cy="143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932360" y="1700280"/>
            <a:ext cx="223200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n’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1415880" cy="144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7380360" y="189000"/>
            <a:ext cx="1511280" cy="1330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380360" y="1700280"/>
            <a:ext cx="1763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wo way r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0536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Don’t make U 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2987640" y="2492280"/>
            <a:ext cx="1414440" cy="144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843280" y="4005360"/>
            <a:ext cx="19065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urn le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8"/>
          <a:stretch/>
        </p:blipFill>
        <p:spPr>
          <a:xfrm>
            <a:off x="5364000" y="2492280"/>
            <a:ext cx="151308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076720" y="4005360"/>
            <a:ext cx="1979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Turn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451640" y="2492280"/>
            <a:ext cx="1392480" cy="14162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4360" y="4076640"/>
            <a:ext cx="1979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Go ah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3059280" y="472428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5435640" y="472428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7667640" y="4797360"/>
            <a:ext cx="1274760" cy="1657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602136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Air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27280" y="6021360"/>
            <a:ext cx="190836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Rail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76720" y="6237360"/>
            <a:ext cx="2195640" cy="620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Speed Lim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0720" y="6308640"/>
            <a:ext cx="1187280" cy="549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Bus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684360" y="4653000"/>
            <a:ext cx="1368360" cy="1254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traffic%20light%20red.jpg"/>
          <p:cNvPicPr/>
          <p:nvPr/>
        </p:nvPicPr>
        <p:blipFill>
          <a:blip r:embed="rId2"/>
          <a:stretch/>
        </p:blipFill>
        <p:spPr>
          <a:xfrm>
            <a:off x="611280" y="620640"/>
            <a:ext cx="2085840" cy="2409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1949849782053089133traffic_light_yellow_dan_01_svg_med.png"/>
          <p:cNvPicPr/>
          <p:nvPr/>
        </p:nvPicPr>
        <p:blipFill>
          <a:blip r:embed="rId3"/>
          <a:stretch/>
        </p:blipFill>
        <p:spPr>
          <a:xfrm>
            <a:off x="3635280" y="3284640"/>
            <a:ext cx="1914480" cy="2247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traffic-light-green.png"/>
          <p:cNvPicPr/>
          <p:nvPr/>
        </p:nvPicPr>
        <p:blipFill>
          <a:blip r:embed="rId4"/>
          <a:stretch/>
        </p:blipFill>
        <p:spPr>
          <a:xfrm>
            <a:off x="6084720" y="692280"/>
            <a:ext cx="2190960" cy="2514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9640" y="3284640"/>
            <a:ext cx="241164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s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0" y="335772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48000" y="5589720"/>
            <a:ext cx="2411280" cy="647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Comic Sans MS"/>
              </a:rPr>
              <a:t>You must wa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 rot="2016000">
            <a:off x="-624960" y="2013120"/>
            <a:ext cx="10766160" cy="171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68360" y="5373720"/>
            <a:ext cx="8280360" cy="12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FASTEN YOUR SEAT BELT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80360" cy="6669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24000" y="1989000"/>
            <a:ext cx="8640720" cy="8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RED is at the top STOP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ransition spd="slow"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07:05:07Z</dcterms:created>
  <dc:creator>AAA</dc:creator>
  <dc:description/>
  <dc:language>en-US</dc:language>
  <cp:lastModifiedBy>HCD</cp:lastModifiedBy>
  <dcterms:modified xsi:type="dcterms:W3CDTF">2011-04-03T13:06:06Z</dcterms:modified>
  <cp:revision>17</cp:revision>
  <dc:subject/>
  <dc:title>WELCOME</dc:title>
</cp:coreProperties>
</file>